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8958-3673-4192-B58F-EDC04BC52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7371-473D-4C5B-8D78-67793ABA2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CBAF-0C61-41A4-8E9C-752392C9C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DB85-E473-498E-8EE7-3F63A26A7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4D24-BCD5-4DBD-BE83-857F7BE91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5826-14CE-427F-9500-AA4F37EF8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818F-F812-453A-A403-494B50F09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8E62-CF6E-47E8-A71D-9D26032DD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B41C-6AE6-4BA4-85D2-6039B0745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81FB-E063-41D8-B3D1-0832C4D3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6331-5C56-4690-A2C4-634EEB93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516E-A417-4BD3-9F57-F18B29D5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00E45-C9FA-46E9-9E97-03815D4499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outube.com/watch?v=AQE41DvHofs" TargetMode="External"/><Relationship Id="rId3" Type="http://schemas.openxmlformats.org/officeDocument/2006/relationships/hyperlink" Target="http://www.youtube.com/watch?v=YVvBEFOj_T8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fika 3D z użycie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 3D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940000" y="5949720"/>
            <a:ext cx="276876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r: Adam Więckow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ozszerzenie dla środowiska uruchomieniowego Java Runtime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feruje obsługę grafiki 2D i 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ostarcza bibliotekę opartą na OpenG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ostarcza API umożliwiający dostęp do funkcji i obiektów graficznych na wysokim poziomie abstrakc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zwala na wyświetlanie obiektów w czasie rzeczywistym oraz interakcję z ni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ykorzystanie OpenGL umożliwia uzyskanie wysokiej jakości renderowanych sc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sługiwane są funkcje takie jak antyaliasing, filtrowanie anizotropowe, cieniowanie, dynamiczne oświetle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zwala to na tworzenie przeróżnych aplikacji, zarówno wizualizacji różnego rodzaju symulacji czy też gier 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ak samo jak Java biblioteki i interfejs są niezależne od systemu operacyjnego – Java 3D dostępna jest pod Windowsa, Linuksa, MacOSa i Solari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ożliwe jest tworzenie appletów, które mogą być uruchamiane w przeglądarce internetowej poprzez dołączenie biblioteki do aplikac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181440" y="2923920"/>
            <a:ext cx="28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ce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124000" y="0"/>
            <a:ext cx="5186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zykłady uży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youtube.com/watch?v=AQE41DvHo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youtube.com/watch?v=YVvBEFOj_T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2T17:22:34Z</dcterms:created>
  <dc:creator>Adam</dc:creator>
  <dc:description/>
  <dc:language>en-US</dc:language>
  <cp:lastModifiedBy>Adam Więckowski</cp:lastModifiedBy>
  <dcterms:modified xsi:type="dcterms:W3CDTF">2013-06-02T21:56:35Z</dcterms:modified>
  <cp:revision>56</cp:revision>
  <dc:subject/>
  <dc:title>Karty chipowe</dc:title>
</cp:coreProperties>
</file>